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8F1-47C0-44EF-B6AD-AA167567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440-E1DF-47AF-B9E9-E62B0792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045-9AF0-4445-84D3-181CB6B1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B993-45D5-4F24-95F6-AA73C730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82F5-5B42-437F-8160-26F62FB9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EB03-4C0F-4D7C-A15F-5BB6852E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0FF7-F0FA-4C45-B7BE-89F16C0A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DC10-503A-49C8-8CF8-6E2276B8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E18F-281D-4DAB-91B4-99404CB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121B-ED70-4519-B783-4A2FC097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33F4-1EB2-4B34-8244-F495797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A14-7D48-4F69-8120-1BD6C92F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21C-8C95-4914-B51E-5A2467A9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A311-C006-4027-83D3-8CD266A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5C9D-9A60-4D31-8465-E5291F5E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C9F7-CC3C-4E8A-9DB1-3AD6E548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8A0E-35AA-4010-AD30-C0DD12F4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B8A-0293-4368-8429-683C6777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0EC-804F-4EDC-A6FD-139A2502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9A8-6231-4E04-8CAB-291CD4E7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AA0-464A-4792-8C2E-E5F7BC1A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E27-7289-4CBA-B4C2-D10F1ED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090-4A1B-496C-8442-B1F351F5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135C-F3AC-47F2-938E-B74B6E84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0A85-BC33-486D-8C41-E7B821DAF21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52F6-74E7-4739-AC33-AEEC302425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gymnasticscoaching.com/new/wp-content/uploads/2009/08/Nastia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erformance Appre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YMNA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February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095720" cy="2762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87972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832120" cy="204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268280"/>
            <a:ext cx="2735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upils will discuss Qualities of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upils will watch a video and note down the qualities of the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alities of Perform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order to perform, observe and describe strengths and weaknesses in performance, you need to take into account the four qualities of performanc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echnic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hysic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rson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pecial qu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Qualities of Perform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r Technical, Physical, Personal and Special qualities write down TWO aspects within each of these quali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 quality performance in gymnastics demands the following basic characteris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trolled mov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low and 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ffective use of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ariety of mov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ation in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f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Watch the video closely and note down what qualities the performer shows within their rout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youtube.com/watch?v=kcITw-kdV3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oose TWO qualities (either technical, physical, personal or special) and explain why these qualities are impor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KirkpatrickL</cp:lastModifiedBy>
  <dcterms:modified xsi:type="dcterms:W3CDTF">2010-02-08T10:25:32Z</dcterms:modified>
  <cp:revision>61</cp:revision>
  <dc:subject/>
  <dc:title>Slide 1</dc:title>
</cp:coreProperties>
</file>